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1781-0460-4767-A6DE-F0C43D5ED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E6A7-D4BD-4D13-8A55-FD915032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0128-B8A7-4BF0-8428-83DD9F595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1399-A064-4B04-8063-A6C763C83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04EE-4894-4265-826B-D952533D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CDF8-8916-46FB-BB5F-2E711B6A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DE26-D23A-4E21-8839-56EE268D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76A1-4E8D-4195-BE48-7090B51F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3880" y="1122480"/>
            <a:ext cx="9143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E414-F3EB-4C98-B819-6F1D74AE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113C-2E82-4E80-B697-14346F4B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5FF8-6287-4EEE-9B01-0AFC88F5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5D25-626D-4E96-B074-57E894EE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等线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等线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1C717E-D166-494E-8BCD-BE787BCB1733}" type="slidenum">
              <a:rPr b="0" lang="en-US" sz="1200" spc="-1" strike="noStrike">
                <a:solidFill>
                  <a:srgbClr val="8b8b8b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hello</a:t>
            </a:r>
            <a:endParaRPr b="0" lang="en-US" sz="6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1</Words>
  <Paragraphs>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1-21T03:00:04Z</dcterms:created>
  <dc:creator>飞跃 任</dc:creator>
  <dc:description/>
  <dc:language>en-US</dc:language>
  <cp:lastModifiedBy>飞跃 任</cp:lastModifiedBy>
  <dcterms:modified xsi:type="dcterms:W3CDTF">2024-11-21T03:01:06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</vt:r8>
  </property>
</Properties>
</file>